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8A056AC2-8FA5-4990-B866-988D1EF4474F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17DEA28E-6A57-47C0-80DD-F0F8DFE5FA73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Tab%208%20-%20Teaching%20PSP1/Teaching%20PSP1.ppt" TargetMode="External"/><Relationship Id="rId2" Type="http://schemas.openxmlformats.org/officeDocument/2006/relationships/hyperlink" Target="file:///../Tab%209%20-%20PSP1%20Data%20Presentation/PSP1%20Data.ppt" TargetMode="External"/><Relationship Id="rId3" Type="http://schemas.openxmlformats.org/officeDocument/2006/relationships/hyperlink" Target="file:///../Tab%2010%20-%20PSP1%20Grading/EX%20PSP1%20Grading.ppt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Tab%2010%20-%20PSP1%20Grading/EX%20PSP1%20Grading.ppt" TargetMode="External"/><Relationship Id="rId2" Type="http://schemas.openxmlformats.org/officeDocument/2006/relationships/hyperlink" Target="file:///../Tab%2011%20-%20Teaching%20PSP2/Teaching%20PSP2.ppt" TargetMode="External"/><Relationship Id="rId3" Type="http://schemas.openxmlformats.org/officeDocument/2006/relationships/hyperlink" Target="file:///../Tab%2012%20-%20PSP2%20Data%20Presentation/PSP2%20Data.ppt" TargetMode="External"/><Relationship Id="rId4" Type="http://schemas.openxmlformats.org/officeDocument/2006/relationships/hyperlink" Target="file:///../Tab%2013%20-%20PSP2%20Grading/EX%20PSP2%20Grading.ppt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Tab%2013%20-%20PSP2%20Grading/EX%20PSP2%20Grading.ppt" TargetMode="External"/><Relationship Id="rId2" Type="http://schemas.openxmlformats.org/officeDocument/2006/relationships/hyperlink" Target="file:///../Tab%2014%20-%20Final%20Report%20Grading/EX%20Final%20Report%20Grading.ppt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Tab%203%20-%20Licensing/Licensing%20&amp;%20Auth.ppt" TargetMode="External"/><Relationship Id="rId2" Type="http://schemas.openxmlformats.org/officeDocument/2006/relationships/hyperlink" Target="file:///../Tab%204%20-%20Teaching%20PSP%20Courses/Teaching%20PSP%20Courses.ppt" TargetMode="External"/><Relationship Id="rId3" Type="http://schemas.openxmlformats.org/officeDocument/2006/relationships/hyperlink" Target="file:///../Tab%204%20-%20Teaching%20PSP%20Courses/EX%20Inst%20Support%20%20tool.ppt" TargetMode="External"/><Relationship Id="rId4" Type="http://schemas.openxmlformats.org/officeDocument/2006/relationships/hyperlink" Target="file:///../Tab%205%20-%20Teaching%20PSP0/Teaching%20PSP0.ppt" TargetMode="External"/><Relationship Id="rId5" Type="http://schemas.openxmlformats.org/officeDocument/2006/relationships/hyperlink" Target="file:///../Tab%207%20-%20PSP0%20Grading/EX%20PSP0%20Grading.ppt" TargetMode="External"/><Relationship Id="rId6" Type="http://schemas.openxmlformats.org/officeDocument/2006/relationships/hyperlink" Target="file:///../Tab%207%20-%20PSP0%20Grading/EX%20PSP0%20Grading.ppt" TargetMode="External"/><Relationship Id="rId7" Type="http://schemas.openxmlformats.org/officeDocument/2006/relationships/hyperlink" Target="file:///../Tab%206%20-%20PSP0%20Data%20Presentation/PSP0%20Data.ppt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1036800" y="1828800"/>
            <a:ext cx="25905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036800" y="1752480"/>
            <a:ext cx="6597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Lecture: Course Introduction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803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Agenda - Day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4920" y="1409760"/>
            <a:ext cx="844380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tinental breakfa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Teaching PSP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Overview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Fundamental Planning Concep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Schedule Planning and Track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Planning and Tracking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Commitmen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2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ching PSP1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, continu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PROBE Methods A &amp; B tutori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Estimating with PROBE II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Using PSP1 tutori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2"/>
              </a:rPr>
              <a:t>PSP1 data present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:1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3"/>
              </a:rPr>
              <a:t>Exercise: PSP1 grad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djour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8200" y="81108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Agenda - Day 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4920" y="1409760"/>
            <a:ext cx="800100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tinental breakfa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PSP1 grading exercise feedbac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9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ching PSP2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2"/>
              </a:rPr>
              <a:t>Overview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Software Qualit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Software Desig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2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2:4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ching PSP2, continu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Design Verific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Understanding &amp; Improving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Quality Performanc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Planning &amp; Tracking Qualit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Using PSP2 tutori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:4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3"/>
              </a:rPr>
              <a:t>PSP2 data present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:1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4"/>
              </a:rPr>
              <a:t>Exercise: PSP2 grad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djour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803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Agenda - Day 4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4920" y="140976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tinental breakfa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ching PSP2, continu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Defining &amp; Improving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Personal Proces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9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PSP2 grading exercise feedbac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:1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2"/>
              </a:rPr>
              <a:t>Exercise: Final report grad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2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inal report grading exercise feedbac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:4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paring to teach PSP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:4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ing the PSP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:1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ass Data Exercis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:1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SP2.1 Grading Review Homewor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djour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8236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Agenda - Day 5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5280" y="1409760"/>
            <a:ext cx="80740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r" pos="1139760"/>
                <a:tab algn="l" pos="1378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8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tinental breakfa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8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troducing PSP and TSP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8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9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8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Qualification ex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8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2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8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rse conclusion and feedbac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8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djour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8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course will help you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 a plan for teaching the PSP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common problems and pitfalls that your students may encounter, and know how to help them overcome these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how to grade and analyze student assig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your role as a change agent in introducing the PSP to your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demarks and Service Mark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17360" y="1714320"/>
            <a:ext cx="74134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following are service marks of Carnegie Mellon University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MMI</a:t>
            </a:r>
            <a:r>
              <a:rPr b="0" lang="en-US" sz="2000" spc="-1" strike="noStrike" baseline="30000">
                <a:solidFill>
                  <a:srgbClr val="39536b"/>
                </a:solidFill>
                <a:latin typeface="Arial"/>
              </a:rPr>
              <a:t>SM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Software Process</a:t>
            </a:r>
            <a:r>
              <a:rPr b="0" lang="en-US" sz="2000" spc="-1" strike="noStrike" baseline="30000">
                <a:solidFill>
                  <a:srgbClr val="39536b"/>
                </a:solidFill>
                <a:latin typeface="Arial"/>
              </a:rPr>
              <a:t>SM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</a:t>
            </a:r>
            <a:r>
              <a:rPr b="0" lang="en-US" sz="2000" spc="-1" strike="noStrike" baseline="30000">
                <a:solidFill>
                  <a:srgbClr val="39536b"/>
                </a:solidFill>
                <a:latin typeface="Arial"/>
              </a:rPr>
              <a:t>SM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ersonal Software Process</a:t>
            </a:r>
            <a:r>
              <a:rPr b="0" lang="en-US" sz="2000" spc="-1" strike="noStrike" baseline="30000">
                <a:solidFill>
                  <a:srgbClr val="39536b"/>
                </a:solidFill>
                <a:latin typeface="Arial"/>
              </a:rPr>
              <a:t>S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SP</a:t>
            </a:r>
            <a:r>
              <a:rPr b="0" lang="en-US" sz="2000" spc="-1" strike="noStrike" baseline="30000">
                <a:solidFill>
                  <a:srgbClr val="39536b"/>
                </a:solidFill>
                <a:latin typeface="Arial"/>
              </a:rPr>
              <a:t>SM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following are registered trademarks of Carnegie Mellon Universit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apability Maturity Model®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MM®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4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2852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tion of instructors and stud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objec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ching the PSP to oth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agend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roduc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2852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or introdu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logistics and building fac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k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ecial me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introdu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ame and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trai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expec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course, you will understan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to effectively teach the PSP to oth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to grade student assignments and analyze resulting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ole of a change agent in introducing the PSP into an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ching the PSP to Oth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ly teaching the PSP to others requires that you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145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and understand the steps, tools, and methods of the 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145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your role in teaching the PSP in your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145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your role as a change agent for technology transf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Your Role as a Change Ag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2852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ur experience has shown that introducing the PSP requires more than just teaching; technology transfer is also nee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is course, we’ll discu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chnology transition models and metho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roles as an agent for technology transi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to use the TSP to help you introduce the disciplined methods of PSP into your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Your Role as Teach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is course, we’ll discu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e’ve learned about effective teaching strateg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on problems, pitfalls, and student err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to plan for course delive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to grade student assignments and analyze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88840" y="803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Agenda - Day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1409400"/>
            <a:ext cx="8337600" cy="5078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tinental breakfa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rse introduc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9:1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PSP licensing &amp; authorization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9:4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2"/>
              </a:rPr>
              <a:t>Teaching PSP Cours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3"/>
              </a:rPr>
              <a:t>Exercise: Using the PSP instructor support too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2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ching PSP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4"/>
              </a:rPr>
              <a:t>Overview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Introduction to the PSP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udent Presentation: Using PSP0 tutori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3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3:1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5"/>
              </a:rPr>
              <a:t>Exercise: PSP0 grading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:1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6"/>
              </a:rPr>
              <a:t>PSP0 grading exercise feedbac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: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7"/>
              </a:rPr>
              <a:t>PSP0 data present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113976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:3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djourn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08Z</dcterms:modified>
  <cp:revision>274</cp:revision>
  <dc:subject/>
  <dc:title>No Slide Title</dc:title>
</cp:coreProperties>
</file>